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2F9-EAF3-4C40-A9F5-06F889F4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41D-A31F-47A2-AFB9-E49FA1F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3F0-6A95-4737-A0FB-02F8909A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82D-17CB-4568-85F9-CE59186C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2F1A-5D7A-4450-81CB-0B46A113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D9F9-2370-4760-B4A1-F136763B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A963-74A3-48B3-A2E6-ECF3964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503-2888-4716-8E56-E8CCB400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374E-719E-41D4-8BDA-4EEA5D9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C82-6E7D-47CB-9A95-807EE139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C6EB-0273-4461-A97C-0DFA591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6AE-7B5E-4CE4-84FF-D7A147D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BBD3-4A36-479C-AB05-DA649A6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E184-1C77-4FC6-9BD7-FD6EEE4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EF8-B8A7-4FFF-97D3-681AFCB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400-01F8-41A4-B48F-39A71708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0418-F34B-4DC6-A055-27B52E9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B6E-3D9D-4A8C-BD79-1AC1DB16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A8C-916F-4A5B-B7E2-A7AD140D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C56-57C4-46C2-8A0D-139A67A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EC6-DDDA-40DB-919F-CF58808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FFD-0BAB-43B4-A4B6-F8DB1BE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1DF-1302-4A7E-B9E5-D1DA106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4C3-E04F-4C27-B16B-DF05CA7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D73-4C28-4572-BB76-806CB91036F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C62-05DA-4A3E-8604-E88A23934C72}" type="slidenum"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6071-9FBE-4B09-AC95-F54311CB6F4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F57-67C3-4707-B076-FA756D9006F6}" type="slidenum"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Georgia"/>
              </a:rPr>
              <a:t>BİLİMSEL ARAŞTIRMA YÖNTEMLERİ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 Narrow"/>
              </a:rPr>
              <a:t>Prof. Dr. Mustafa Ergü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 Narrow"/>
              </a:rPr>
              <a:t>AKÜ - Eğitim Fakültes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743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(devam)</a:t>
            </a:r>
            <a:br>
              <a:rPr sz="3600"/>
            </a:b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irli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r s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orud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bir fikir üzerinde odaklanın. Her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dde bir tek davranış, tavır, fikir, olay ya da konu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le ilgili olmalıdır. Bunun için “ve”, “ya da” gibi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ğlaçları kullanmayı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(devam)</a:t>
            </a:r>
            <a:br>
              <a:rPr sz="3600"/>
            </a:b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çık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nsanları ne sorulduğunu tahmin etmeye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zorlamayın. İfadenizin herkes tarafından aynı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şekilde anlaşıldığından emin olun. Eğer gerekliyse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k açıklamalar yapı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vap Formatının Seçim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nketler genelde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insanların bir ifadeye ne kadar katıldıklarını, bir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şeyin ne kadar önemli olduğunu yada bir şeyin ne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ıklıkla yapıldığını öğrenmeye yöneliktir. 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Anket cevaplarında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kullanılabilecek bazı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evap formatları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recelendirme ölçekleri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nketlerde genelde ürün ya da hizmetlerin belirli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r ölçeğe göre derecelendirilmeleri istenir. Bazı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nketlerde ise insanlara verilen ifadelere ne kadar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katıldıkları ya da katılmadıkları sorulur.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Likert tipi cevaplamada “Tamamen katılıyorum”dan “hiç katılmıyorum”a veya “önemli”den “önemsiz”e veya “çok acıyor”dan “hiç acımıyor”a cevap derecelemeleri kullanılı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KESİNLİKLE KATILM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KATILM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KARARSIZI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KATIL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 KESİNLİKLE KATILIYORU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HİÇ TATMİN OLMAD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 TATMİN OLMAD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KARARSIZ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 TATMİN OLDU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 ÇOK TATMİN OLD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ÇOK KÖTÜ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KÖTÜ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ORTA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İYİ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 ÇOK İY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recelendirme ölçeklerini hazırlarken uç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ktaların zıt anlamda olduklarından emin olun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(yoks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ten alınan yanıtlar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aflı ol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ur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 Örneğin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GENELDE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TAMAMIYLA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SON DERECE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MÜKEMM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ddeleri sıralamak</a:t>
            </a:r>
            <a:br>
              <a:rPr sz="4000"/>
            </a:b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Başk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ir cevap formatı, bir seçenek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esindeki maddeleri farklı kriterlere (örnek: önemderecesi) göre sıralamalarını istemektir. Örneğin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ütfen aşağıdaki 5 iyileştirme ama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ını önem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ırasına göre 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1” en önemliyi, “5” en önemsizi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sil edecek şekilde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ıralayınız.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ÇABUK BAŞARI ELDE ETME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ÜRETİMİN MİKTARINI ARTTIRMA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FİYATLARI DÜŞÜRME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BİRİKEN İŞ SAYISINI AZALTMA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HATA MİKTARINI DÜŞÜRM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rcihleri belirlemek</a:t>
            </a:r>
            <a:r>
              <a:rPr b="1" lang="tr-TR" sz="4000" spc="-1" strike="noStrike">
                <a:solidFill>
                  <a:srgbClr val="ffff00"/>
                </a:solidFill>
                <a:latin typeface="Arial"/>
              </a:rPr>
              <a:t> (çoktan seçmeli)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rad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ifade ya da tercihlerden oluşanbir liste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de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ygun olan tercihleri yuvarlak içine alarak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şaretlemeleri istenir. 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ür soruların cevaplandırılması, sıralama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rularından daha kolaydı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rumlar ve açık uçlu sorular</a:t>
            </a:r>
            <a:br>
              <a:rPr sz="3200"/>
            </a:br>
            <a:br>
              <a:rPr sz="3200"/>
            </a:b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Baz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kete katılanların ek yorum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ına ihtiyaç duyulabilir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rad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vaplayıcılara, kendileri için önemli olanları v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tediklerini kendi cümleleriyle yazabilmeleri içinboş bir alan bırakılır.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Kendimizi nasıl geliştirebileceğimiz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onusunda önerileriniz var mı?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Ekleme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stediğiniz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başk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ir husus var mı?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 bilgiler hiç dokunulmamış konuları orta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çıkarmak için çok yararlıdır.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ncak bu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rulara verilen cevaplarıyorumlam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çok zo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du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176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fff00"/>
                </a:solidFill>
                <a:latin typeface="Times New Roman"/>
              </a:rPr>
              <a:t>Anket</a:t>
            </a:r>
            <a:br>
              <a:rPr sz="8800"/>
            </a:b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yoluyla bilgi toplama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llecting Primary Data Through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Questionnaire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mografik sorular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(kişisel sorular)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fik sorular genelde katılımcıları sınıf, yaş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a da eğitim seviyesi gibi kriterlere dayalı olarak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ha küçük ve özellikli gruplara ayırmak için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ullanılır. Eğer anketin amaçlarından birisi iki farklı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ubun verdiği yanıtlar arasındaki öneml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rklılıkları belirlemek ise bu ayrıştırma önemlidir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cak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fik soruların cevaplayıcıların kimliğin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taya çıkartacak olması onların kendilerin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hatsız hissetmelerine ve dürüst cevap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memelerine yol açabilir.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Burad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dişeler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zaltmak için, anket cevaplarının nasıl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ullanılacağını anlatan bir açıklama ve cevapların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zliliğini içeren bir taahhüt yararlı olabili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ddelerin Gözden Geçirilmesi</a:t>
            </a:r>
            <a:br>
              <a:rPr sz="3600"/>
            </a:b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Hazırladığınız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ru maddeleri ve cevap formatlarını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şağıdaki özelliklere uyup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ymadıklarını inceleyin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anketin amacına uygun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u?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kette yer alan her bir soru için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özel bir nedeniniz olduğundan emin olun. Her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man anketin amacına ve bu amacı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tekleyecek bilgi çeşidine odaklanın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anket yapılan bireyler için uygun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u?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kete insanların bilmedikleri, cevapveremeyecekleri maddeleri eklemeyin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uygun sonuçlar sağlayabilecek yetenekte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i?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de edilen verileri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, araştırmacını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htiyaç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yduğu nitelikteki bilgiyi sağlamalıdı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Anket sorular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şağıdakiler gibi olma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sın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belirsiz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lış yorumlanabilecek kelime ve ifadelerd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çının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çakışa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rbiri ile çakışan cevap seçeneklerini vermekt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çının.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Yönlendir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İnsanları, arzuladığınız cevaplara yönlendirecek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puçları vermekten kaçının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Çift taraflı ola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ynı madde içerisinde iki ayrı konu olmamasın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kkat edin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ketin Girişi ve Talimatları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ketler genelde, anketin amacını ve verilerin nasıl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ullanılacağını anlatan kısa bir giriş paragrafı ile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şlar. Giriş paragrafını, anketin nasıl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ldurulacağını anlatan kısa kurallar takip eder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Özellikle ankette demografik maddeler mevcutsa,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anlara güven vermek için, verecekleri yanıtları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izli kalacağına dair bir ifade bu bölümde yer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malıdı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nketin Test Edilmesi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slak bir anket hazırladıktan sonra, anket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iştirmek ve muhtemel hataları belirlemek içi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 edebilirsiniz. Test, anket geniş kitlelere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ğıtmadan önce, güvenilirlik ve geçerliliğinde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min olmak için yapılır. Test genelde büyük grubu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sil eden daha küçük bir gruba uygulanır.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Burad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lamı açık olmayan sorular,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ksik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ve yanlış sorular belirlenir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Uzman kanısına başvurul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Anketle veriler nasıl toplanır?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1- posta,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2- telefon,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3- yüzyüze görüşme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4- interne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ket Sonuçlarının Özetlenmesi</a:t>
            </a:r>
            <a:br>
              <a:rPr sz="4400"/>
            </a:br>
            <a:br>
              <a:rPr sz="2400"/>
            </a:b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keti uyguladıktan sonra sonra, sonuçları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özetlemeli, analiz etmeli ve yorumlamalısınız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rekans dağılımları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 dağılımlar, anket sorularına verilen cevapların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asitçe sayılması ve gruplandırılması ile eld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dilebilir. Frekans dağılımları kolay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rumlanabilmeleri için genelde tablolar ya da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fik barlar halinde sunulurlar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ket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ilgilerini düzenlemenin bir yolu da anket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atılanları sınıflar halinde düşünmektir.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ınıflandırma, katılımcıları, benzer özelliklerin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yanarak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uplandırmaktır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ket Sonuçlarının Özetlenmesi</a:t>
            </a:r>
            <a:br>
              <a:rPr sz="4400"/>
            </a:br>
            <a:br>
              <a:rPr sz="2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üzdeler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ket verilerini özetlemenin en basit yollarından</a:t>
            </a: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risi de yüzdelerdir. Yüzdeler tablolar, grafik barlar ya da pasta</a:t>
            </a: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yagram yardımı ile gösterilir.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Diğer istatistiksel yöntemler: T testi, F testi (ANOVA), korelasyon, regresyon vs.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35164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Pınar Ünsal. </a:t>
            </a:r>
            <a:r>
              <a:rPr b="1" lang="tr-TR" sz="4400" spc="-1" strike="noStrike">
                <a:solidFill>
                  <a:srgbClr val="ffff00"/>
                </a:solidFill>
                <a:latin typeface="Verdana"/>
              </a:rPr>
              <a:t>Örgütsel Araştırmalarda Anket Yöntemi</a:t>
            </a:r>
            <a:r>
              <a:rPr b="1" lang="tr-TR" sz="4400" spc="-1" strike="noStrike">
                <a:solidFill>
                  <a:srgbClr val="ffffcc"/>
                </a:solidFill>
                <a:latin typeface="Verdana"/>
              </a:rPr>
              <a:t>. </a:t>
            </a: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İstanbul: Çantay yay. 2003.</a:t>
            </a:r>
            <a:br>
              <a:rPr sz="4400"/>
            </a:b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Türker Baş. </a:t>
            </a:r>
            <a:r>
              <a:rPr b="1" lang="tr-TR" sz="4400" spc="-1" strike="noStrike">
                <a:solidFill>
                  <a:srgbClr val="ffff00"/>
                </a:solidFill>
                <a:latin typeface="Verdana"/>
              </a:rPr>
              <a:t>Anket</a:t>
            </a: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. Seçkin Yayıncılık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, sistematik bir veri toplama yöntemidir. Verile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önceden belirlenmi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ş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insanlara bir dizi soru sorarak elde edilir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 yöntemi ile çok farkl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ı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türde veri toplamak mümkündü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nketler, az detaylı</a:t>
            </a:r>
            <a:br>
              <a:rPr sz="5200"/>
            </a:b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veri sağlamalarına rağmen, kısa zamanda büyük</a:t>
            </a:r>
            <a:br>
              <a:rPr sz="5200"/>
            </a:b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miktarlarda veri toplanmak için uygundurlar.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ffff00"/>
                </a:solidFill>
                <a:latin typeface="Times New Roman"/>
              </a:rPr>
              <a:t>Anketler ikiye ayrılır</a:t>
            </a:r>
            <a:br>
              <a:rPr sz="5400"/>
            </a:b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Yapılandırılmamış (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Unstructured</a:t>
            </a: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):</a:t>
            </a: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Bir kompozisyon halinde yazdırma veya serbestçe listeletme) veya açık uçlu sorularla</a:t>
            </a:r>
            <a:br>
              <a:rPr sz="3600"/>
            </a:b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Yapılandırılmış (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Structured</a:t>
            </a: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):</a:t>
            </a: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Cevapları şıklar haline getirilmiş sorular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Yapılandırımış ankletler ya Likert tipi bir skala ile ya da çoktan seçmeli cevap seçenekleri ile veri topl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cc"/>
                </a:solidFill>
                <a:latin typeface="Times New Roman"/>
              </a:rPr>
              <a:t>Kapalı uçlu sorular (sınıflayıcı türde ölçüm yapan sorular), dercelendirme ölçekleri (Likert tarzı ölçekler, zıt anlam ölçekleri, sıralayıcı ölçekler ve Thurstone ölçekleri) kullanırl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ket Maddelerinin Oluşturulması</a:t>
            </a:r>
            <a:br>
              <a:rPr sz="3600"/>
            </a:b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Araştırma konusunda 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lınıza gelen her şeyi not edin.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şlangıçta fazla madde olması iyidir. Mükemmel soru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h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zırlamaya odaklanmayın.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lk başta, tüm konulara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ğinmek önemlidir. Anket maddelerini oluşturmak için,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eyin fırtınası, ağaç diyagramları ve diğer fikir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üreten metotlar yararlı olacaktı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çıkça yazılm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fadeler net olmalı ve kolay anlaşılabilmelidir.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knik terim, kısaltma ve jargonları kullanmak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açının.</a:t>
            </a: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ısa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nketin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ddelerini yanıtlayan kişinin dikkati dağılmaması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e ankete konsantre olabilmesi için konu dışı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elimeleri ve fikirleri ortadan kaldırı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8:22:50Z</dcterms:created>
  <dc:creator>Mustafa Ergun</dc:creator>
  <dc:description/>
  <dc:language>en-US</dc:language>
  <cp:lastModifiedBy>Mustafa Ergun</cp:lastModifiedBy>
  <dcterms:modified xsi:type="dcterms:W3CDTF">2003-12-15T14:46:11Z</dcterms:modified>
  <cp:revision>29</cp:revision>
  <dc:subject/>
  <dc:title>BİLİMSEL ARAŞTIRMA YÖNTEMLERİ</dc:title>
</cp:coreProperties>
</file>